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BBEE9-3E0D-4BCD-B284-24F5F517A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09C03-947C-4303-9704-FE95B59463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A31E4-EC01-45B6-B010-6AD34E42CE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87E6F-4872-4BA2-A7D7-DFB38041B1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F3112-B86C-4579-9E9F-3B887E9839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DF829-F27C-45EB-B76F-963DDD1226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3F46F-F1A9-49D6-854C-5DB6A7E121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303D3-F599-441B-B410-6452BBDA12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81132-3798-475B-8F48-4D54F3BACF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7E2D9-6F7F-417A-BAB7-2208AEAA62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5E44A-F755-4970-A348-B83EBF1534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A7A0D-DC3F-422D-A720-9B7DFBD0FE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03B2E-B06F-4FEB-9AA4-DB72CFDEF6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94A1D-E292-46AB-B2AB-6ABFDC2787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61CC4-08B4-46FA-BB24-C8DDF281E9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CF773-6AE0-4AF0-9FC7-339D2DFEC2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42DEA-7CC6-4C74-8FFA-26EA841427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26F13-C7A2-4FF2-ADB8-FDCAF9C225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DB427-4CFF-4A9D-B642-2400A88E77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1423A-A7CF-4318-B92F-7504D36A0F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07A4D-2E8E-46A4-98CA-DE60C55B0E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F76-108A-4179-8E47-A127742E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88D-DA59-4696-ABCA-877EBA36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9D6-7B69-48DC-AA7E-BFED5F67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BEA-0CA2-412F-825F-D2617F38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50CAA-FE7F-4B6B-B122-A8CCD794A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36B97-DC8C-47FE-AE80-107886B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4A985-0CCB-4287-8613-F49DB45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70FB9-0197-4362-BC15-0BB2156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22B58-0F10-4947-8465-15E6FDE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C54C4-C57C-4F49-B91E-52F60523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771DA-D7C0-4DC8-ADE0-6EC5964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F63-ADC2-44F9-B253-A4CA4868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C1025-FF27-4C80-8470-1D800E2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8AE96-856D-401C-A0C4-DCE3AE0F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511A-3579-468F-89AC-7506DE17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9745-8273-4409-B03A-1D6911E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EB9F-1B5B-4329-83A4-4721293F6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768-A228-49C6-96B8-43AC1BC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056-5BD7-410A-8861-582CBA7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557-0F13-417C-9701-6526EE1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E4D-AA6C-4EFC-AF61-539F07B3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07E-D8B9-4E5B-97BE-3D6F6D37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CE2-34E2-42EE-BEF0-94FA001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039-FB4F-499B-A399-362B2DF0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18A44-50D5-4236-A6FD-665859015A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B52B2-5A26-467C-8EA2-835032ED76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pact of the Intern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to inform Americans about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et is purposive—people choose what to learn ab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Americans are generally disinterested in politics, they will not necessarily use the Internet for political inform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ogs provide additional information about news stor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Control of the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ly a small number of TV stations are publicly owned in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in what they can report, media are totally dependent on advertising reven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ns: massive media conglomerates that account for over four-fifths of the nati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daily newspaper circ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 control broadcast med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ing the Ne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ats: specific locations from which news frequently emanates, such as Congress or the White 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l Balloons: an intentional news leak for the purpose of assessing the political re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orters and their sources depend on each other—one for stories, the other to get them ou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685800" y="1523880"/>
            <a:ext cx="7772400" cy="4865760"/>
            <a:chOff x="685800" y="1523880"/>
            <a:chExt cx="7772400" cy="4865760"/>
          </a:xfrm>
        </p:grpSpPr>
        <p:pic>
          <p:nvPicPr>
            <p:cNvPr id="116" name="Picture 14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777240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772400" cy="4255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enting the New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uperfic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describes most news coverage toda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und Bites: short video clips of approximately 10 sec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TV networks devote less time to covering political candid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71629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as in the Ne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eople believe the news is biased in favor of one point of vie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ly is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very biased toward a particular ide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 reporting is biased towards what will draw the largest audience—good pictures and negative repor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1676520" y="1523880"/>
            <a:ext cx="5790960" cy="4832640"/>
            <a:chOff x="1676520" y="1523880"/>
            <a:chExt cx="5790960" cy="4832640"/>
          </a:xfrm>
        </p:grpSpPr>
        <p:pic>
          <p:nvPicPr>
            <p:cNvPr id="125" name="Picture 11" descr=""/>
            <p:cNvPicPr/>
            <p:nvPr/>
          </p:nvPicPr>
          <p:blipFill>
            <a:blip r:embed="rId1"/>
            <a:stretch/>
          </p:blipFill>
          <p:spPr>
            <a:xfrm>
              <a:off x="1676520" y="1523880"/>
              <a:ext cx="579096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2" descr=""/>
            <p:cNvPicPr/>
            <p:nvPr/>
          </p:nvPicPr>
          <p:blipFill>
            <a:blip r:embed="rId2"/>
            <a:stretch/>
          </p:blipFill>
          <p:spPr>
            <a:xfrm>
              <a:off x="1676520" y="1981080"/>
              <a:ext cx="5790960" cy="4375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News and Public Opin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evision news can affect what people think is impor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enda-setting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 influence the criteria by which the public evaluates political lea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stories or events can be made more important, others less important, depending on their cover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 Agenda-Setting Fun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ssues that attract the serious attention of public officials and other people actively involved in politics at th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cy Entrepreneu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who invest their political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t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an issue to get it placed high on governmental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media to raise awareness of iss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the Mass Med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 and the Scope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a as watchdog restricts politicia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proposals are met with skepticism which restricts scope of government, what it can d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media identifies a problem, it forces government to address it, which expands the scope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05740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09 Pearson Education, Inc. Publishing as Long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ass Media and the Political 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00400" y="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dwards, Wattenberg, and Lineberr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Government in America: People, Politics, and Polic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Fourteenth Edi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the Mass Med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 and the Med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idates run on their own by appealing to people on televi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sier to focus on one person like the president, than groups, e.g., Congress or the cou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acy and the Med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is the fuel of democracy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 news provides more entertainment than information; it is superfic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 is a business, giving people what they wa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 shape public opinion on political issues and influence policy agend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oadcast media have replaced print media over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casting and the Internet are further shifting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eking profits, media are biased in favor of stories with high dram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ss Med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levision, radio, newspapers, magazines, the Internet and other means of popular commun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-Tech Politic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olitics in which the behavior of citizens and policymakers and the political agenda itself are increasingly shaped by techn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ss Media Tod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communication through media is key to political suc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a Events: events purposely staged for the media that nonetheless look spontaneou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a events can be staged by almost anybod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age making and news management is important, especially for presiden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news media was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 always so importa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s Conferences: meetings of public officials with repor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anklin Roosevelt held over 1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estigative Journalism: the use of in-depth reporting to unearth scandals, scams &amp; schemes putting reporters &amp; politicians opposite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verage of presidential candidates has become less favorab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in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papers and magazi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ellow journalism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a sensational style of reporting characterized newspapers at the turn of the centur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cking order among newspa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ew York Time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largest imp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paper and newsweekly circulation has declin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roadcas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levision and radi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ought government and politics into people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om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etnam W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tici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earances and mannerisms more import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nnedy-Nixon presidential deb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 Regulation of the Broadcas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ederal Communications Commission (FCC) regulates the use of airwaves in three way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vent near monopoly control of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ews performance of st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sues fair treatment rules for politicia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om Broadcasting to Narrowcasting: The Rise of Cable News Chann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rrowcasting: media programming on cable TV or Internet that is focused on one topic and aimed at a particular audience, e.g., C-SP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of cable to report on news as it happens and offer myriad cho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et resources are limited and stories are not substan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4:40:13Z</dcterms:created>
  <dc:creator>madisonk Madison</dc:creator>
  <dc:description/>
  <dc:language>en-US</dc:language>
  <cp:lastModifiedBy>madisonk Madison</cp:lastModifiedBy>
  <dcterms:modified xsi:type="dcterms:W3CDTF">2014-10-15T14:40:50Z</dcterms:modified>
  <cp:revision>1</cp:revision>
  <dc:subject/>
  <dc:title>PowerPoint Presentation</dc:title>
</cp:coreProperties>
</file>